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46888" cy="9024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DFFE9-909A-43D7-866F-1523609BA9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295280" y="406296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3B063-C2F6-48B2-A53A-39C1ECBA84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0120" y="15998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95280" y="406296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190120" y="406296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D17AD-BD60-49EE-84B6-962AB418F6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65320" y="15998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435360" y="15998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295280" y="406296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865320" y="406296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435360" y="406296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1B3C3-E57F-48B8-8471-D14534514B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BA612-E553-44EF-AF24-662755DACF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295280" y="159984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EE8E0-AB8B-4261-8B26-DE37DD3A1D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DC0E7-07EF-482E-A9EE-D123C70CDC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0120" y="159984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FDA21-34AB-431E-9E5B-BE18C62AAA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C0ECD-9275-4C3E-9459-3666EF27E3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60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EF2B7-CAFC-4BC6-8DF8-50CCC14499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90120" y="159984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295280" y="406296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23D47-94AE-45EA-A653-EB3CE7D35E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295280" y="159984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458BB-7EFA-46C5-8D5C-D4B33135A7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90120" y="15998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190120" y="406296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6A3E6-F689-4D56-8D85-8D2C91529E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90120" y="15998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95280" y="406296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29DB5-7A71-43A0-BB65-91DED85DF3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295280" y="406296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54D09-9609-409B-8897-B1D76CDCF9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90120" y="15998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295280" y="406296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190120" y="406296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F2288-A98C-46CF-86A8-F922441DD5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865320" y="15998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435360" y="15998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295280" y="406296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865320" y="406296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435360" y="406296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66561-9916-44AE-9A7E-C2B49AFD90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24944-BD0B-4CA7-918C-82D26DA9C9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90120" y="159984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85D63-3C5F-43CE-B7BB-1F703BFDE2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EE1E8-16F5-4C46-803A-05AED3B20C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60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0E5AB-D1A5-4497-9D3E-F5918B27FF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90120" y="159984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406296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21596-1DBC-425B-8163-D5E100BEF4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90120" y="15998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190120" y="406296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A3C69-E794-403E-8D36-F3DA63DACB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90120" y="15998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95280" y="406296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A0AF3-068A-4518-BD3F-6D062E7BD7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159984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a220a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44708"/>
              </a:buClr>
              <a:buSzPct val="80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a220a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447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a220a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447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a220a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47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a220a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7a22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a220a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7a22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a220a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77840" y="6319800"/>
            <a:ext cx="201924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a220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220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029200" y="6319800"/>
            <a:ext cx="148104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a220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81A7-5DF5-41D1-B962-355C21B9693C}" type="slidenum">
              <a:rPr b="0" lang="en-US" sz="1400" spc="-1" strike="noStrike">
                <a:solidFill>
                  <a:srgbClr val="7a220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5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c1c03"/>
                </a:gs>
                <a:gs pos="100000">
                  <a:srgbClr val="ec3e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c1c03"/>
                </a:gs>
                <a:gs pos="100000">
                  <a:srgbClr val="ec3e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c1c03"/>
                </a:gs>
                <a:gs pos="100000">
                  <a:srgbClr val="ec3e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c1c03"/>
                </a:gs>
                <a:gs pos="100000">
                  <a:srgbClr val="ec3e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c3e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c3e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</p:grpSp>
      <p:sp>
        <p:nvSpPr>
          <p:cNvPr id="34" name=""/>
          <p:cNvSpPr/>
          <p:nvPr/>
        </p:nvSpPr>
        <p:spPr>
          <a:xfrm>
            <a:off x="1676520" y="342900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65" y="21585"/>
                </a:moveTo>
                <a:arcTo wR="10800" hR="10800" stAng="522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1365" y="21585"/>
                </a:moveTo>
                <a:arcTo wR="10800" hR="10800" stAng="5220000" swAng="10980000"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a220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3"/>
          </p:nvPr>
        </p:nvSpPr>
        <p:spPr>
          <a:xfrm>
            <a:off x="3362040" y="6319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a220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220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4"/>
          </p:nvPr>
        </p:nvSpPr>
        <p:spPr>
          <a:xfrm>
            <a:off x="6400800" y="6330960"/>
            <a:ext cx="148104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a220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9577-D80A-4B41-A624-9B22955E92CD}" type="slidenum">
              <a:rPr b="0" lang="en-US" sz="1400" spc="-1" strike="noStrike">
                <a:solidFill>
                  <a:srgbClr val="7a220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5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c1c03"/>
                </a:gs>
                <a:gs pos="100000">
                  <a:srgbClr val="ec3e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c1c03"/>
                </a:gs>
                <a:gs pos="100000">
                  <a:srgbClr val="ec3e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c1c03"/>
                </a:gs>
                <a:gs pos="100000">
                  <a:srgbClr val="ec3e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c1c03"/>
                </a:gs>
                <a:gs pos="100000">
                  <a:srgbClr val="ec3e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c3e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c3e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5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8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c3e08"/>
                      </a:gs>
                      <a:gs pos="100000">
                        <a:srgbClr val="6c1c0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a220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c1c03"/>
                      </a:gs>
                      <a:gs pos="100000">
                        <a:srgbClr val="ec3e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a220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c3e08"/>
                      </a:gs>
                      <a:gs pos="100000">
                        <a:srgbClr val="6c1c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a220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c1c03"/>
                      </a:gs>
                      <a:gs pos="100000">
                        <a:srgbClr val="ec3e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a220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3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c1c03"/>
                    </a:gs>
                    <a:gs pos="100000">
                      <a:srgbClr val="ec3e08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a220a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c1c03"/>
                    </a:gs>
                    <a:gs pos="100000">
                      <a:srgbClr val="ec3e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7a220a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c3e08"/>
                    </a:gs>
                    <a:gs pos="100000">
                      <a:srgbClr val="6c1c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7a220a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c1c03"/>
                    </a:gs>
                    <a:gs pos="100000">
                      <a:srgbClr val="ec3e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7a220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c1c03"/>
                    </a:gs>
                    <a:gs pos="100000">
                      <a:srgbClr val="ec3e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a220a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c3e08"/>
                    </a:gs>
                    <a:gs pos="100000">
                      <a:srgbClr val="6c1c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a220a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c1c03"/>
                    </a:gs>
                    <a:gs pos="50000">
                      <a:srgbClr val="ec3e08"/>
                    </a:gs>
                    <a:gs pos="100000">
                      <a:srgbClr val="6c1c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7a220a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c1c03"/>
                    </a:gs>
                    <a:gs pos="100000">
                      <a:srgbClr val="ec3e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a220a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c1c03"/>
                    </a:gs>
                    <a:gs pos="100000">
                      <a:srgbClr val="ec3e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a220a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c1c03"/>
                    </a:gs>
                    <a:gs pos="100000">
                      <a:srgbClr val="ec3e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7a220a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a220a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220a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7a220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4470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4470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220a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7a220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44708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220a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7a220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7a22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220a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7a220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7a22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220a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7a220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2320" y="762120"/>
            <a:ext cx="6780240" cy="29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a220a"/>
                </a:solidFill>
                <a:latin typeface="Times New Roman"/>
              </a:rPr>
              <a:t>School, Family, and Community Partnership Action Team Model</a:t>
            </a:r>
            <a:br>
              <a:rPr sz="3600"/>
            </a:br>
            <a:r>
              <a:rPr b="1" lang="en-US" sz="2400" spc="-1" strike="noStrike">
                <a:solidFill>
                  <a:srgbClr val="7a220a"/>
                </a:solidFill>
                <a:latin typeface="Times New Roman"/>
              </a:rPr>
              <a:t>Strengthening Family Support and Involvement in Schools through Action Research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523520" y="4123800"/>
            <a:ext cx="7618680" cy="120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a220a"/>
                </a:solidFill>
                <a:latin typeface="Arial"/>
              </a:rPr>
              <a:t>Institute for Responsive Education</a:t>
            </a: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a220a"/>
                </a:solidFill>
                <a:latin typeface="Arial"/>
              </a:rPr>
              <a:t>Linda L. Peterson</a:t>
            </a: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Module 1 - Culture and Climate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a220a"/>
                </a:solidFill>
                <a:latin typeface="Arial"/>
              </a:rPr>
              <a:t>This session lays the groundwork for building a team and creating a true partnership.  Time is spent looking at the current school goals and the direction the team would like the school to go.  </a:t>
            </a:r>
            <a:endParaRPr b="1" lang="en-US" sz="3000" spc="-1" strike="noStrike">
              <a:solidFill>
                <a:srgbClr val="7a220a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a220a"/>
                </a:solidFill>
                <a:latin typeface="Arial"/>
              </a:rPr>
              <a:t>In building a strong family partnership, the first step is seeing if the school is “welcoming” to families.</a:t>
            </a:r>
            <a:endParaRPr b="1" lang="en-US" sz="3000" spc="-1" strike="noStrike">
              <a:solidFill>
                <a:srgbClr val="7a220a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a220a"/>
                </a:solidFill>
                <a:latin typeface="Arial"/>
              </a:rPr>
              <a:t>The team conducts a welcoming walk-through of the school.</a:t>
            </a:r>
            <a:endParaRPr b="1" lang="en-US" sz="3000" spc="-1" strike="noStrike">
              <a:solidFill>
                <a:srgbClr val="7a22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Self-Assessment Activity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3429000" cy="33894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71760" y="1599840"/>
            <a:ext cx="37242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220a"/>
                </a:solidFill>
                <a:latin typeface="Arial"/>
              </a:rPr>
              <a:t>Spend the next five minutes completing the self-assessment survey.</a:t>
            </a:r>
            <a:endParaRPr b="1" lang="en-US" sz="28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220a"/>
                </a:solidFill>
                <a:latin typeface="Arial"/>
              </a:rPr>
              <a:t>How “welcoming” is your school?</a:t>
            </a:r>
            <a:endParaRPr b="1" lang="en-US" sz="2800" spc="-1" strike="noStrike">
              <a:solidFill>
                <a:srgbClr val="7a22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Module 2 - Short Team Goals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a220a"/>
                </a:solidFill>
                <a:latin typeface="Arial"/>
              </a:rPr>
              <a:t>The team reports back the results of their walk-through and discusses the changes that can be readily made in the school. </a:t>
            </a:r>
            <a:endParaRPr b="1" lang="en-US" sz="30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a220a"/>
                </a:solidFill>
                <a:latin typeface="Arial"/>
              </a:rPr>
              <a:t>This activity builds teamwork and puts short-term goals into immediate action.</a:t>
            </a:r>
            <a:endParaRPr b="1" lang="en-US" sz="30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497880" y="304920"/>
            <a:ext cx="3581640" cy="6037200"/>
          </a:xfrm>
          <a:prstGeom prst="rect">
            <a:avLst/>
          </a:prstGeom>
          <a:solidFill>
            <a:srgbClr val="ddddd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ete sample docume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ons and replace with working document icons as follows: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Insert Menu, select Object...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“Create from File”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e File name in “File” box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sure “Display as Icon” is checked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icon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Slide Show Menu, Select “Action Settings”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“Object Action” and select “Edit”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72320" y="6489720"/>
            <a:ext cx="153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a220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0" y="48769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a220a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715000" y="4800600"/>
            <a:ext cx="242244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Module 3 - Action Research - Data Collection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5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a220a"/>
                </a:solidFill>
                <a:latin typeface="Arial"/>
              </a:rPr>
              <a:t>The short-term projects should be completed.</a:t>
            </a:r>
            <a:endParaRPr b="1" lang="en-US" sz="3000" spc="-1" strike="noStrike">
              <a:solidFill>
                <a:srgbClr val="7a220a"/>
              </a:solidFill>
              <a:latin typeface="Arial"/>
            </a:endParaRPr>
          </a:p>
          <a:p>
            <a:pPr marL="301680" indent="-301680">
              <a:spcBef>
                <a:spcPts val="75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a220a"/>
                </a:solidFill>
                <a:latin typeface="Arial"/>
              </a:rPr>
              <a:t>This session shows the team how to involve the entire school community in researching the needs of students, families, and school staff.</a:t>
            </a:r>
            <a:endParaRPr b="1" lang="en-US" sz="3000" spc="-1" strike="noStrike">
              <a:solidFill>
                <a:srgbClr val="7a220a"/>
              </a:solidFill>
              <a:latin typeface="Arial"/>
            </a:endParaRPr>
          </a:p>
          <a:p>
            <a:pPr marL="301680" indent="-301680">
              <a:spcBef>
                <a:spcPts val="75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a220a"/>
                </a:solidFill>
                <a:latin typeface="Arial"/>
              </a:rPr>
              <a:t>The team designs and plans take-home surveys, focus groups, and interviews for families and staff as part of the data collection needed to develop an action plan.</a:t>
            </a:r>
            <a:endParaRPr b="1" lang="en-US" sz="3000" spc="-1" strike="noStrike">
              <a:solidFill>
                <a:srgbClr val="7a22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Module 4 - Data Day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00120" y="12949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a220a"/>
                </a:solidFill>
                <a:latin typeface="Arial"/>
              </a:rPr>
              <a:t>At this stage, the team has collected all the data. </a:t>
            </a:r>
            <a:endParaRPr b="1" lang="en-US" sz="30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a220a"/>
                </a:solidFill>
                <a:latin typeface="Arial"/>
              </a:rPr>
              <a:t>A larger group is invited to participate to help review all the data and to establish categories of “needs improvement” and “is working well”.</a:t>
            </a:r>
            <a:endParaRPr b="1" lang="en-US" sz="30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a220a"/>
                </a:solidFill>
                <a:latin typeface="Arial"/>
              </a:rPr>
              <a:t>All of the data is also tied to the academic goals of the school.</a:t>
            </a:r>
            <a:endParaRPr b="1" lang="en-US" sz="3000" spc="-1" strike="noStrike">
              <a:solidFill>
                <a:srgbClr val="7a220a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620120" y="4800600"/>
            <a:ext cx="125712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Module 5 - Sharing the Information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a220a"/>
                </a:solidFill>
                <a:latin typeface="Arial"/>
              </a:rPr>
              <a:t>In order to be inclusive with the entire school community, the information gathered during Data Day is shared with the larger school body and explained in regards to process and outcomes.</a:t>
            </a: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a220a"/>
                </a:solidFill>
                <a:latin typeface="Arial"/>
              </a:rPr>
              <a:t>Action ideas are discussed with the larger group and recommendations are requested.</a:t>
            </a: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304920"/>
            <a:ext cx="3581640" cy="6037200"/>
          </a:xfrm>
          <a:prstGeom prst="rect">
            <a:avLst/>
          </a:prstGeom>
          <a:solidFill>
            <a:srgbClr val="ddddd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ete sample docume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ons and replace with working document icons as follows: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Insert Menu, select Object...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“Create from File”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e File name in “File” box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sure “Display as Icon” is checked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icon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Slide Show Menu, Select “Action Settings”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“Object Action” and select “Edit”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02120" y="6489720"/>
            <a:ext cx="236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a220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Module 6 - Creating an Action Plan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a220a"/>
                </a:solidFill>
                <a:latin typeface="Arial"/>
              </a:rPr>
              <a:t>The team takes the recommendations of the larger group and refines them into achievable action steps.</a:t>
            </a:r>
            <a:endParaRPr b="1" lang="en-US" sz="30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a220a"/>
                </a:solidFill>
                <a:latin typeface="Arial"/>
              </a:rPr>
              <a:t>One to three steps are recommended.</a:t>
            </a:r>
            <a:endParaRPr b="1" lang="en-US" sz="30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a220a"/>
                </a:solidFill>
                <a:latin typeface="Arial"/>
              </a:rPr>
              <a:t>The steps should be tied to a specific academic goal of the school.</a:t>
            </a:r>
            <a:endParaRPr b="1" lang="en-US" sz="30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a220a"/>
                </a:solidFill>
                <a:latin typeface="Arial"/>
              </a:rPr>
              <a:t>These steps are then discussed with the larger group and approved by the school administration.</a:t>
            </a:r>
            <a:endParaRPr b="1" lang="en-US" sz="3000" spc="-1" strike="noStrike">
              <a:solidFill>
                <a:srgbClr val="7a220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a22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Module 7 - Sustainability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a220a"/>
                </a:solidFill>
                <a:latin typeface="Arial"/>
              </a:rPr>
              <a:t>At this final stage the action team takes the action steps and creates a specific plan for each step to be implemented.</a:t>
            </a: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971800" y="3809880"/>
            <a:ext cx="4343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42960" y="304920"/>
            <a:ext cx="760104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Action Plan</a:t>
            </a:r>
            <a:br>
              <a:rPr sz="2800"/>
            </a:b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Goal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660033"/>
                </a:solidFill>
                <a:latin typeface="Times New Roman"/>
              </a:rPr>
              <a:t>Improve students’ literacy skills through parent involvement activities planned by the parent center.</a:t>
            </a:r>
            <a:br>
              <a:rPr sz="2400"/>
            </a:b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Work Plan For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660033"/>
                </a:solidFill>
                <a:latin typeface="Times New Roman"/>
              </a:rPr>
              <a:t>Improved communication through the newsletter, email, web site, and room parents.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803240" y="2228760"/>
          <a:ext cx="7032960" cy="45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3240" y="2228760"/>
                    <a:ext cx="703296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Activity - Design an Action Plan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171760" y="1599840"/>
            <a:ext cx="37242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220a"/>
                </a:solidFill>
                <a:latin typeface="Arial"/>
              </a:rPr>
              <a:t>In a small group - design an action plan</a:t>
            </a:r>
            <a:endParaRPr b="1" lang="en-US" sz="28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220a"/>
                </a:solidFill>
                <a:latin typeface="Arial"/>
              </a:rPr>
              <a:t>Goal: </a:t>
            </a:r>
            <a:r>
              <a:rPr b="1" i="1" lang="en-US" sz="2800" spc="-1" strike="noStrike">
                <a:solidFill>
                  <a:srgbClr val="7a220a"/>
                </a:solidFill>
                <a:latin typeface="Arial"/>
              </a:rPr>
              <a:t>Determine new parents’ needs for support</a:t>
            </a:r>
            <a:endParaRPr b="1" lang="en-US" sz="28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220a"/>
                </a:solidFill>
                <a:latin typeface="Arial"/>
              </a:rPr>
              <a:t>Work Plan for: </a:t>
            </a:r>
            <a:r>
              <a:rPr b="1" i="1" lang="en-US" sz="2800" spc="-1" strike="noStrike">
                <a:solidFill>
                  <a:srgbClr val="7a220a"/>
                </a:solidFill>
                <a:latin typeface="Arial"/>
              </a:rPr>
              <a:t>Data collection from new parents</a:t>
            </a:r>
            <a:endParaRPr b="1" lang="en-US" sz="28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220a"/>
                </a:solidFill>
                <a:latin typeface="Arial"/>
              </a:rPr>
              <a:t>Report Out</a:t>
            </a:r>
            <a:endParaRPr b="1" lang="en-US" sz="2800" spc="-1" strike="noStrike">
              <a:solidFill>
                <a:srgbClr val="7a220a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3505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Workshop Objectives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95280" y="1523880"/>
            <a:ext cx="760104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220a"/>
                </a:solidFill>
                <a:latin typeface="Arial"/>
              </a:rPr>
              <a:t>Workshop Objectives: To enable participants to:</a:t>
            </a:r>
            <a:endParaRPr b="1" lang="en-US" sz="2800" spc="-1" strike="noStrike">
              <a:solidFill>
                <a:srgbClr val="7a220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44708"/>
              </a:buClr>
              <a:buSzPct val="80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220a"/>
                </a:solidFill>
                <a:latin typeface="Arial"/>
              </a:rPr>
              <a:t>assess their readiness to create a school, family, and community partnership with the assistance of the action team model</a:t>
            </a:r>
            <a:endParaRPr b="1" lang="en-US" sz="2800" spc="-1" strike="noStrike">
              <a:solidFill>
                <a:srgbClr val="7a220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44708"/>
              </a:buClr>
              <a:buSzPct val="80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220a"/>
                </a:solidFill>
                <a:latin typeface="Arial"/>
              </a:rPr>
              <a:t>describe the benefits of action research and the action team model</a:t>
            </a:r>
            <a:endParaRPr b="1" lang="en-US" sz="2800" spc="-1" strike="noStrike">
              <a:solidFill>
                <a:srgbClr val="7a220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44708"/>
              </a:buClr>
              <a:buSzPct val="80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220a"/>
                </a:solidFill>
                <a:latin typeface="Arial"/>
              </a:rPr>
              <a:t>introduce the action team model as a method for strengthening family support and involvement at their site</a:t>
            </a:r>
            <a:endParaRPr b="1" lang="en-US" sz="2800" spc="-1" strike="noStrike">
              <a:solidFill>
                <a:srgbClr val="7a220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22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Recommended Reading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a220a"/>
                </a:solidFill>
                <a:latin typeface="Arial"/>
              </a:rPr>
              <a:t>Parent-Teacher Action Research in Profile </a:t>
            </a: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- IRE (Included in handouts)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a220a"/>
                </a:solidFill>
                <a:latin typeface="Arial"/>
              </a:rPr>
              <a:t>Engaging Families and Communities-Pathways to Educational Success</a:t>
            </a: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 - Larry Decker, Virginia Decker and Associates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a220a"/>
                </a:solidFill>
                <a:latin typeface="Arial"/>
              </a:rPr>
              <a:t>Building Partnerships Workbook</a:t>
            </a: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 - Northwest Regional Educational Lab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a220a"/>
                </a:solidFill>
                <a:latin typeface="Arial"/>
              </a:rPr>
              <a:t>Education and Community Building - Connecting Two Worlds</a:t>
            </a: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 - Institute for Educational Leadership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a220a"/>
                </a:solidFill>
                <a:latin typeface="Arial"/>
              </a:rPr>
              <a:t>Building Support for Better Schools - Seven Steps to Engaging Hard-to-Reach Communities</a:t>
            </a: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 - Southwest Educational Development Lab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542960" y="21427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220a"/>
                </a:solidFill>
                <a:latin typeface="Arial"/>
              </a:rPr>
              <a:t>Presentation: </a:t>
            </a:r>
            <a:r>
              <a:rPr b="1" i="1" lang="en-US" sz="2400" spc="-1" strike="noStrike">
                <a:solidFill>
                  <a:srgbClr val="7a220a"/>
                </a:solidFill>
                <a:latin typeface="Arial"/>
              </a:rPr>
              <a:t>What is action research?</a:t>
            </a:r>
            <a:r>
              <a:rPr b="1" lang="en-US" sz="2800" spc="-1" strike="noStrike">
                <a:solidFill>
                  <a:srgbClr val="7a220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220a"/>
                </a:solidFill>
                <a:latin typeface="Arial"/>
              </a:rPr>
              <a:t>Presentation: </a:t>
            </a:r>
            <a:r>
              <a:rPr b="1" i="1" lang="en-US" sz="2400" spc="-1" strike="noStrike">
                <a:solidFill>
                  <a:srgbClr val="7a220a"/>
                </a:solidFill>
                <a:latin typeface="Arial"/>
              </a:rPr>
              <a:t>IRE Training and Technical Assistance - Action Team Model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220a"/>
                </a:solidFill>
                <a:latin typeface="Arial"/>
              </a:rPr>
              <a:t>Activity: </a:t>
            </a:r>
            <a:r>
              <a:rPr b="1" i="1" lang="en-US" sz="2400" spc="-1" strike="noStrike">
                <a:solidFill>
                  <a:srgbClr val="7a220a"/>
                </a:solidFill>
                <a:latin typeface="Arial"/>
              </a:rPr>
              <a:t>Individual Assessment for partnership readiness</a:t>
            </a:r>
            <a:r>
              <a:rPr b="1" i="1" lang="en-US" sz="2800" spc="-1" strike="noStrike">
                <a:solidFill>
                  <a:srgbClr val="7a220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220a"/>
                </a:solidFill>
                <a:latin typeface="Arial"/>
              </a:rPr>
              <a:t>Presentation: </a:t>
            </a:r>
            <a:r>
              <a:rPr b="1" i="1" lang="en-US" sz="2400" spc="-1" strike="noStrike">
                <a:solidFill>
                  <a:srgbClr val="7a220a"/>
                </a:solidFill>
                <a:latin typeface="Arial"/>
              </a:rPr>
              <a:t>Developing an Action Plan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220a"/>
                </a:solidFill>
                <a:latin typeface="Arial"/>
              </a:rPr>
              <a:t>Small Group Activity: </a:t>
            </a:r>
            <a:r>
              <a:rPr b="1" i="1" lang="en-US" sz="2400" spc="-1" strike="noStrike">
                <a:solidFill>
                  <a:srgbClr val="7a220a"/>
                </a:solidFill>
                <a:latin typeface="Arial"/>
              </a:rPr>
              <a:t>Designing an Action Plan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220a"/>
                </a:solidFill>
                <a:latin typeface="Arial"/>
              </a:rPr>
              <a:t>Wrap-up - </a:t>
            </a:r>
            <a:r>
              <a:rPr b="1" i="1" lang="en-US" sz="2400" spc="-1" strike="noStrike">
                <a:solidFill>
                  <a:srgbClr val="7a220a"/>
                </a:solidFill>
                <a:latin typeface="Arial"/>
              </a:rPr>
              <a:t>Questions &amp; Answers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7696080" cy="881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What is Action Research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7295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a220a"/>
                </a:solidFill>
                <a:latin typeface="Arial"/>
              </a:rPr>
              <a:t>Action research</a:t>
            </a: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 is a process that builds school improvement programs that can really make a difference in the lives of children and families. 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a220a"/>
                </a:solidFill>
                <a:latin typeface="Arial"/>
              </a:rPr>
              <a:t>Action research</a:t>
            </a: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 helps various members of the school community - teachers, parents, administrators, and community members - reflect on which strategies are currently working, what needs to be reshaped or changed, and what needs to be discontinued altogether.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The process creates a forum for getting different perspectives on what works from people with the greatest stake in the success of the program.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The Benefits of the Process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37245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The process: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Cultivates partnerships through participatory research and shared learning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Supports relationship building among the participants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Empowers all members of the school community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172120" y="1727280"/>
            <a:ext cx="352116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Ten Steps to Action Research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5280" y="1447920"/>
            <a:ext cx="7601040" cy="48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Step 1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Getting a Group Together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Step 2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Choosing a Facilitator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Step 3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Picking a Researchable Topic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Step 4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Finding Out What your Colleagues Already Know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Step 5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Finding Out What Others Have Written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Steps for Action Research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4296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Step 6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Gathering Data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Step 7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Compiling and Discussing the Data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Step 8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Writing What Happened and What You Learned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Step 9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Sharing Findings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Step 10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lvl="1" marL="74304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Designing and</a:t>
            </a:r>
            <a:r>
              <a:rPr b="1" i="1" lang="en-US" sz="2400" spc="-1" strike="noStrike" u="sng">
                <a:solidFill>
                  <a:srgbClr val="7a220a"/>
                </a:solidFill>
                <a:uFillTx/>
                <a:latin typeface="Arial"/>
              </a:rPr>
              <a:t> Implementing</a:t>
            </a: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 an Action Plan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lvl="1" marL="743040" indent="0" algn="ctr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220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Action Research: </a:t>
            </a:r>
            <a:br>
              <a:rPr sz="4400"/>
            </a:b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Data Collection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00120" y="1523880"/>
            <a:ext cx="33004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220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Journals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Anecdotal Records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Interviews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Portfolios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Questionnaires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Tape Recording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Video Recording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Focus Groups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357880" y="1981080"/>
            <a:ext cx="29606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IRE Action Team Model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a220a"/>
                </a:solidFill>
                <a:latin typeface="Arial"/>
              </a:rPr>
              <a:t>Module 1 - </a:t>
            </a:r>
            <a:r>
              <a:rPr b="1" i="1" lang="en-US" sz="3200" spc="-1" strike="noStrike">
                <a:solidFill>
                  <a:srgbClr val="7a220a"/>
                </a:solidFill>
                <a:latin typeface="Arial"/>
              </a:rPr>
              <a:t>Culture and Climate</a:t>
            </a: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a220a"/>
                </a:solidFill>
                <a:latin typeface="Arial"/>
              </a:rPr>
              <a:t>Module 2 - </a:t>
            </a:r>
            <a:r>
              <a:rPr b="1" i="1" lang="en-US" sz="3200" spc="-1" strike="noStrike">
                <a:solidFill>
                  <a:srgbClr val="7a220a"/>
                </a:solidFill>
                <a:latin typeface="Arial"/>
              </a:rPr>
              <a:t>Short Term Goals</a:t>
            </a: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a220a"/>
                </a:solidFill>
                <a:latin typeface="Arial"/>
              </a:rPr>
              <a:t>Module 3 - </a:t>
            </a:r>
            <a:r>
              <a:rPr b="1" i="1" lang="en-US" sz="3200" spc="-1" strike="noStrike">
                <a:solidFill>
                  <a:srgbClr val="7a220a"/>
                </a:solidFill>
                <a:latin typeface="Arial"/>
              </a:rPr>
              <a:t>Action Research - Data </a:t>
            </a:r>
            <a:r>
              <a:rPr b="1" i="1" lang="en-US" sz="3200" spc="-1" strike="noStrike">
                <a:solidFill>
                  <a:srgbClr val="7a220a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7a220a"/>
                </a:solidFill>
                <a:latin typeface="Arial"/>
              </a:rPr>
              <a:t>                  </a:t>
            </a:r>
            <a:r>
              <a:rPr b="1" i="1" lang="en-US" sz="3200" spc="-1" strike="noStrike">
                <a:solidFill>
                  <a:srgbClr val="7a220a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7a220a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7a220a"/>
                </a:solidFill>
                <a:latin typeface="Arial"/>
              </a:rPr>
              <a:t>     Collection</a:t>
            </a: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a220a"/>
                </a:solidFill>
                <a:latin typeface="Arial"/>
              </a:rPr>
              <a:t>Module 4 - </a:t>
            </a:r>
            <a:r>
              <a:rPr b="1" i="1" lang="en-US" sz="3200" spc="-1" strike="noStrike">
                <a:solidFill>
                  <a:srgbClr val="7a220a"/>
                </a:solidFill>
                <a:latin typeface="Arial"/>
              </a:rPr>
              <a:t>Data Day</a:t>
            </a: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a220a"/>
                </a:solidFill>
                <a:latin typeface="Arial"/>
              </a:rPr>
              <a:t>Module 5 - </a:t>
            </a:r>
            <a:r>
              <a:rPr b="1" i="1" lang="en-US" sz="3200" spc="-1" strike="noStrike">
                <a:solidFill>
                  <a:srgbClr val="7a220a"/>
                </a:solidFill>
                <a:latin typeface="Arial"/>
              </a:rPr>
              <a:t>Sharing the Information</a:t>
            </a: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a220a"/>
                </a:solidFill>
                <a:latin typeface="Arial"/>
              </a:rPr>
              <a:t>Module 6 - </a:t>
            </a:r>
            <a:r>
              <a:rPr b="1" i="1" lang="en-US" sz="3200" spc="-1" strike="noStrike">
                <a:solidFill>
                  <a:srgbClr val="7a220a"/>
                </a:solidFill>
                <a:latin typeface="Arial"/>
              </a:rPr>
              <a:t>Creating an Action Plan</a:t>
            </a: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a220a"/>
                </a:solidFill>
                <a:latin typeface="Arial"/>
              </a:rPr>
              <a:t>Module 7 - </a:t>
            </a:r>
            <a:r>
              <a:rPr b="1" i="1" lang="en-US" sz="3200" spc="-1" strike="noStrike">
                <a:solidFill>
                  <a:srgbClr val="7a220a"/>
                </a:solidFill>
                <a:latin typeface="Arial"/>
              </a:rPr>
              <a:t>Sustainability</a:t>
            </a: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497880" y="304920"/>
            <a:ext cx="3581640" cy="6037200"/>
          </a:xfrm>
          <a:prstGeom prst="rect">
            <a:avLst/>
          </a:prstGeom>
          <a:solidFill>
            <a:srgbClr val="ddddd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ete sample docume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ons and replace with working document icons as follows: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Insert Menu, select Object...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“Create from File”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e File name in “File” box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sure “Display as Icon” is checked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icon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Slide Show Menu, Select “Action Settings”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“Object Action” and select “Edit”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06:17Z</dcterms:created>
  <dc:creator>Tiffany Tran</dc:creator>
  <dc:description/>
  <dc:language>en-US</dc:language>
  <cp:lastModifiedBy>Administrator</cp:lastModifiedBy>
  <cp:lastPrinted>2002-05-15T17:13:37Z</cp:lastPrinted>
  <dcterms:modified xsi:type="dcterms:W3CDTF">2009-10-30T15:12:31Z</dcterms:modified>
  <cp:revision>38</cp:revision>
  <dc:subject/>
  <dc:title>School, Family, And Community Partnership Action Team Model Strengthening Family support and Involvement in Schools through Action Research</dc:title>
</cp:coreProperties>
</file>